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9FB-3BAF-466A-97F9-BC75CC7D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AF4-87D4-4FF9-8DAB-25CE8F6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7E2-8E6D-4BA1-8F5F-ACC44AA8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E2A-4551-4B2C-B80D-6674F2C8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C3F-2714-4E97-9FDD-B3D86FD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779-3A57-4F50-A5FE-B677CBB0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9ED-84D9-4805-9FCD-2B696F3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338-206A-454C-83C7-CDF8B7D4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C13-D34E-4B80-8E39-5520055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EF4-BF49-46BA-BA8B-FA52A31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3A0-B438-4C62-AF7A-695111C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61E-EBFB-41A2-9D4B-B9C7D82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60D-E82B-443D-818D-C7458A6C2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476280"/>
          <a:ext cx="8280360" cy="5945040"/>
        </p:xfrm>
        <a:graphic>
          <a:graphicData uri="http://schemas.openxmlformats.org/drawingml/2006/table">
            <a:tbl>
              <a:tblPr/>
              <a:tblGrid>
                <a:gridCol w="2322360"/>
                <a:gridCol w="1854360"/>
                <a:gridCol w="1817640"/>
                <a:gridCol w="228600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名前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　　写真貼り付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学校名（学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連絡先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B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S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リーグで研究していたテーマ・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B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S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リーグの想い出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小塚ゴシック Pro B"/>
                          <a:ea typeface="小塚ゴシック Pro B"/>
                        </a:rPr>
                        <a:t>私の将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2:01:14Z</dcterms:created>
  <dc:creator>admin</dc:creator>
  <dc:description/>
  <dc:language>en-US</dc:language>
  <cp:lastModifiedBy>admin</cp:lastModifiedBy>
  <dcterms:modified xsi:type="dcterms:W3CDTF">2013-01-21T06:23:28Z</dcterms:modified>
  <cp:revision>5</cp:revision>
  <dc:subject/>
  <dc:title>スライド 1</dc:title>
</cp:coreProperties>
</file>