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D08-14D1-49AD-9696-B4220A61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642-0F59-49F7-AD4C-86C1E2C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1B8-7913-41F9-A81E-86DDAE8B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80D-9B8C-4433-AC50-1BA9160A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C55-A3E3-4517-A38D-BAB55CAB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1B3-E654-4E06-9897-C4C7582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116-4327-4B45-B518-1B84AA5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969-FB3C-4016-BC54-8974175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C8B-46E7-487C-8307-85AEA1D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2AF-C1D2-4900-A623-CFFFFE9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90F-2376-4F41-AF07-062863B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A44-D56A-4357-9843-77C7485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C1B-C029-4A6A-AEF3-9E072BDCA0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476280"/>
          <a:ext cx="8280360" cy="5945040"/>
        </p:xfrm>
        <a:graphic>
          <a:graphicData uri="http://schemas.openxmlformats.org/drawingml/2006/table">
            <a:tbl>
              <a:tblPr/>
              <a:tblGrid>
                <a:gridCol w="2322360"/>
                <a:gridCol w="1854360"/>
                <a:gridCol w="1817640"/>
                <a:gridCol w="228600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名前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　　写真貼り付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学校名（学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連絡先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B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S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リーグで研究していたテーマ・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B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S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リーグの想い出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私の将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2:01:14Z</dcterms:created>
  <dc:creator>admin</dc:creator>
  <dc:description/>
  <dc:language>en-US</dc:language>
  <cp:lastModifiedBy>admin</cp:lastModifiedBy>
  <dcterms:modified xsi:type="dcterms:W3CDTF">2013-01-21T06:23:28Z</dcterms:modified>
  <cp:revision>5</cp:revision>
  <dc:subject/>
  <dc:title>スライド 1</dc:title>
</cp:coreProperties>
</file>